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01E-D34C-4F74-BC72-EB34D18A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B7D-6BA8-45C0-BF38-759DC93D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951-F3E0-4ADE-9D60-98A6C303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71F-F7E4-41BF-A9DF-993AE258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A00-28E1-4FB3-90F1-10284F67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95B-D46B-4249-B128-BDC306F1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35D-C98F-4B33-B0FF-BC94C690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13E-6089-40E1-866A-1954B339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94B-1DF0-4554-BBD0-054D7C4C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C69-BCF6-4D2F-91D9-4001AC36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D4F-5387-4B13-9B29-6A0FBD26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926-C9CD-4498-BD5B-0AB9C6D0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25C5-6774-4445-B74D-088DC59727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chool.discoveryeducation.com/clipart/images/pencil_color.gif&amp;imgrefurl=http://school.discoveryeducation.com/clipart/clip/pencil_color.html&amp;usg=__kUnXj5-nEZgU1msbX3CgQY1UNMc=&amp;h=487&amp;w=550&amp;sz=17&amp;hl=en&amp;start=6&amp;sig2=4y3Rx55bzmhpAk2cgScAxw&amp;tbnid=fu28OiD64xgANM:&amp;tbnh=118&amp;tbnw=133&amp;prev=/images%3Fq%3Dpencil%26gbv%3D2%26hl%3Den%26sa%3DG&amp;ei=lVitSsSWPNTZlAedqtHQB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coming Better Wri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619440"/>
            <a:ext cx="2362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Writing Reason #2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Helps You Sort Things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Writing Reason #3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Helps to Persuade Oth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Writing Reason #4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Helps to Fight Oppr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 out of 10 students who start h.s. will not finish 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of every 2 African American and Latino students will not graduate 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America, more and more students are dropping out and not graduating at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Writing Reason #5: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Makes YOU a Better Read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tter writers tend to be better r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tter writers tend to read more than poorer wri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tter readers tend to produce more grammatically mature writing than poorer r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Writing Reason #6: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Makes YOU Sm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riting sharpens your brain by providing mental st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act of writing itself may create new thin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Writing Reason #7: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Helps YOU Get Into and Through Colle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4 things many colleges look for in applica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)  GPA (grade point aver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)  Involvement on the h.s. cam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)  Involvement in your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)  Writing 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Writing Reason #8: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Prepares YOU for the World of 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you write can either be “a ticket into work or a ticket out.”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Top 7 Writing Problems in Schools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ctr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tudents are NOT doing enough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why do YOU think that is a problem?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)  Writing is often assigned rather than ta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3)  Below-grade-level writers are asked to write LESS than others, instead of MORE than oth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4)  Grammar instruction is ineffective or ignor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5)  Students are NOT given enough timed writing instruction pract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ers are doing too much of the work. Students are not doing enough wor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(work is not a bad 4-letter wor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7)  Teachers need to do a better job of assessing (grading / providing feedback) student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Y should YOU become a better writer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Writing Reason #1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is Hard, but “HARD” is Rewarding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0:43:42Z</dcterms:created>
  <dc:creator>BPS</dc:creator>
  <dc:description/>
  <dc:language>en-US</dc:language>
  <cp:lastModifiedBy>BPS</cp:lastModifiedBy>
  <dcterms:modified xsi:type="dcterms:W3CDTF">2009-09-13T21:17:40Z</dcterms:modified>
  <cp:revision>4</cp:revision>
  <dc:subject/>
  <dc:title>Becoming Better Writers</dc:title>
</cp:coreProperties>
</file>